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449-70D8-4176-A3E3-7127C2B4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9FF-6FCA-40C3-A4E5-6BDB7DA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4B0-CA44-47CD-A87B-DC1F5BDD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4B1-8079-4AA3-B5D3-F8552753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045-EF79-401C-BF4D-CFABC88F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BA17-0225-486B-A668-DE79A29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AAB-D016-4476-A97D-2C6D3B4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1AE3-09C3-4534-A810-804F8CD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FB9B-6AC8-404D-8EAD-11D3207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0483-22D7-415F-9BA0-4999087C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5636-0FAF-4DF0-BB73-3B4F31BC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311-9F18-468D-932E-AA32CF3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175-67CA-4F39-88B6-0F71626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3F54-652B-4287-9B24-97AE066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1B42-A0D2-42AB-858E-A1F09DDE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A0CE-C823-4AD2-A7DC-8115A8B6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FDB-B5EB-45F4-8F26-0DDAFF9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75C-AEC9-47E1-A867-A738659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671B-8A8F-4268-8006-56EFB21E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65D-6B99-4CB6-8FEF-831F951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D8A-5138-4879-8D57-6A591D2C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571-0AF5-4DDB-A028-23825A34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4A-CA1F-4EDC-A18B-A19CC01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425-83AE-4A27-9983-D8F3A2B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2AECD-A70D-49DF-BF3B-8844367A92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DA0D2-4D68-4BB7-8F81-BB11C6F46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65C8A-3E6F-4D3A-B926-D8C807956F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12B2C-78E9-4F2D-B8CB-8CAD029D5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lyfamilyedun321.wikispaces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allwisher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964880"/>
            <a:ext cx="7772400" cy="893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Edun 32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ession 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67840" y="1828440"/>
            <a:ext cx="88758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al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hfedun321fa2011.wikispaces.c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53800"/>
            <a:ext cx="779148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ages of Social Stud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810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one word describes your experience with social studies as an elementary studen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870280" y="5823000"/>
            <a:ext cx="5378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Lucida Sans Unicode"/>
                <a:hlinkClick r:id="rId1"/>
              </a:rPr>
              <a:t>http:// www.wallwish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566720" y="4130640"/>
            <a:ext cx="61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nk back…..and sha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9536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Social Studi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egrated study of the social sciences and humanities to promote civic compe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4"/>
          <p:cNvSpPr/>
          <p:nvPr/>
        </p:nvSpPr>
        <p:spPr>
          <a:xfrm rot="19938600">
            <a:off x="699480" y="3917520"/>
            <a:ext cx="16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 rot="1263000">
            <a:off x="1779480" y="4456080"/>
            <a:ext cx="14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ae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 rot="20653200">
            <a:off x="1788840" y="52531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 rot="1147200">
            <a:off x="3993840" y="50544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20364600">
            <a:off x="2935080" y="383364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 rot="1262400">
            <a:off x="4285800" y="3771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 rot="1012200">
            <a:off x="5533920" y="35654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 rot="20251200">
            <a:off x="6321240" y="3946320"/>
            <a:ext cx="20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 rot="1309800">
            <a:off x="5792400" y="510984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 rot="20466600">
            <a:off x="5033880" y="43750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 rot="19995600">
            <a:off x="3254400" y="438588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2170080" y="6127920"/>
            <a:ext cx="14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3735360" y="612936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5778360" y="612936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6920" y="477360"/>
            <a:ext cx="687060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091040" y="5987520"/>
            <a:ext cx="45957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ational Council for the Social Studies (NCS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89000" y="183024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acquire knowledge from the social sciences, history and huma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717480" y="2514600"/>
            <a:ext cx="67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develop skills to think and to pro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022400" y="336852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develop appropriate democratic values and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593720" y="424980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 have opportunities for citizenship/social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95200"/>
            <a:ext cx="68706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s&amp;  NCL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720" y="1324080"/>
            <a:ext cx="81057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eachers are to teach and students are expected to know(content) and do(performance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onal Standards and State Standards (PA &amp; NJ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an orphan…reading,math,  writing, science are prior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531360"/>
            <a:ext cx="6870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 with making AY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connects reading and writing and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lit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b-based activ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40" y="996480"/>
            <a:ext cx="77392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xtbooks, Technology &amp;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2360" y="1752480"/>
            <a:ext cx="769608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xtbooks have dominant role for instruction and based on state guidelines/topics/stand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erican History at certain gra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cient History at other gra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674640" y="4135320"/>
            <a:ext cx="7696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is considered to be a supplement ….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95200"/>
            <a:ext cx="68706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71520" y="1241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al Studies should make informed citizens able to  make wise deci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CLB  &amp; Standards are “suppose to” lead to higher achiev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tional curriculum and textbooks affect how social studies is tau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1:34:00Z</dcterms:created>
  <dc:creator>Rosemary Parmigiani</dc:creator>
  <dc:description/>
  <dc:language>en-US</dc:language>
  <cp:lastModifiedBy>rparmigiani</cp:lastModifiedBy>
  <dcterms:modified xsi:type="dcterms:W3CDTF">2011-08-25T15:02:41Z</dcterms:modified>
  <cp:revision>12</cp:revision>
  <dc:subject/>
  <dc:title>Edun 321</dc:title>
</cp:coreProperties>
</file>